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BD4DA-3FAD-49E4-8B8A-DACB7DF8B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70E27-1984-4631-BC62-2F586EF43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7BE5A-C73A-4BF1-B724-D30A10D69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F9040-D041-4C2E-956A-5518AD0EA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64833-0289-4295-924D-4D221702F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7E27A-0000-4D15-82F1-54DA905D7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F49A3-3469-4C72-BA54-056EB6928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15AEF-12D9-4C44-9873-81FDECC24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B2098-61DB-4EAE-B076-D0EA8809F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CCEF2-EF51-4E6A-A89D-F8208EADA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57A06-C856-4074-A52A-280C6D37A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52935-5034-4D80-B0F4-64F97F48C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61488-DFE1-41A2-B137-815517E56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58DAB-1809-4C91-BD14-2DE05FD6A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D6968-D51B-475A-923B-2430573BB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9D73A-497B-4441-BB3C-E8881E9AD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A274C-97CF-4235-98DB-942963820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BFDFC-BC6C-4F2A-8519-D00D79CCB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D2312-E72A-4DEA-9556-0642E12ED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769E2-0869-49AB-B739-B27C84FB8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430B2-A2DC-4718-8BAF-16EE23624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53C26-A177-4402-8B2A-2FB555F38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AD70E-AB0C-47DB-8F0A-9A10F06F8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EFE41-D47B-4205-A967-CA5B2E120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E097C-CEF8-4FBA-9FF7-871B9F336EB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3FA6C-6B54-485F-9DF3-C45A5557653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smarttech.com/" TargetMode="External"/><Relationship Id="rId2" Type="http://schemas.openxmlformats.org/officeDocument/2006/relationships/hyperlink" Target="http://www.smarttech.com/" TargetMode="External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2.smarttech.com/st/en-US/Products/SMART+Boards/Front+Projection/600+Series/Video+library.htm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486400" y="380880"/>
            <a:ext cx="41911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Smartboard 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0" y="5105520"/>
            <a:ext cx="7162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Interactive Tools to Enhance Instr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340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Guided Practic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pen Notebook Softwar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oca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creen Shad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otligh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agnifier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alculator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creen Captur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Eraser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Penn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Guided Practic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irst four tools are unavailable because they need to hooked up to a board, however, you can still create lessons and add these once you connect.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ree other tools which are useful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ext Box – this allows you to type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hapes – This allows you to insert shape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Lines – This allows you to insert lines or ray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791320" y="914400"/>
            <a:ext cx="80769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Work Time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340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Getting Started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Begin to create a minimum six page lesson using Notebook software. 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Use the tools taught in this lesson in the first few slide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340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Work Tim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articipants are working independently to create their lesson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ese lessons will be projected during the final session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91320" y="838080"/>
            <a:ext cx="80769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Share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457200" y="2438280"/>
            <a:ext cx="8381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n this session, you were shown some tools to use that are part of NoteBook software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What tools did you like to use?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What tools do you think you will be using most often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title"/>
          </p:nvPr>
        </p:nvSpPr>
        <p:spPr>
          <a:xfrm>
            <a:off x="685800" y="-38088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har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Focusing Questions</a:t>
            </a:r>
            <a:br>
              <a:rPr sz="3600"/>
            </a:b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How can I use Interactive Tools to support and enhance my instruction?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91320" y="838080"/>
            <a:ext cx="80769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Instruction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340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Framing Our Work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369800" y="1979640"/>
            <a:ext cx="7313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oday we will learn how to use our Smart NoteBook Software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t must be installed.  You can access the software at the </a:t>
            </a:r>
            <a:r>
              <a:rPr b="0" lang="en-US" sz="2900" spc="-1" strike="noStrike" u="sng">
                <a:solidFill>
                  <a:srgbClr val="006666"/>
                </a:solidFill>
                <a:uFillTx/>
                <a:latin typeface="Verdana"/>
                <a:hlinkClick r:id="rId1"/>
              </a:rPr>
              <a:t>Smart Technologies, Inc. </a:t>
            </a:r>
            <a:r>
              <a:rPr b="0" lang="en-US" sz="2900" spc="-1" strike="noStrike" u="sng">
                <a:solidFill>
                  <a:srgbClr val="000000"/>
                </a:solidFill>
                <a:uFillTx/>
                <a:latin typeface="Verdana"/>
              </a:rPr>
              <a:t>Web site.</a:t>
            </a:r>
            <a:r>
              <a:rPr b="0" lang="en-US" sz="2900" spc="-1" strike="noStrike" u="sng">
                <a:solidFill>
                  <a:srgbClr val="006666"/>
                </a:solidFill>
                <a:uFillTx/>
                <a:latin typeface="Verdana"/>
                <a:hlinkClick r:id="rId2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340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Teaching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et’s watch this short video about the Interactive Whiteboard.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ice a few thing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Where the instructor stand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How he interchanges the pen and eraser tool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How he uses the Interactive Whiteboard rather then his computer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lay video from the </a:t>
            </a:r>
            <a:r>
              <a:rPr b="0" lang="en-US" sz="2600" spc="-1" strike="noStrike" u="sng">
                <a:solidFill>
                  <a:srgbClr val="006666"/>
                </a:solidFill>
                <a:uFillTx/>
                <a:latin typeface="Verdana"/>
                <a:hlinkClick r:id="rId1"/>
              </a:rPr>
              <a:t>Smart Technologies, Inc. Education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Verdana"/>
              </a:rPr>
              <a:t>pag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Teaching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et’s take a look at some of the tools that are installed in NoteBook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ice the four option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creen Shad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otligh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agnifier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alculator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How can we use these tools in our instruction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Teaching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040" y="1827360"/>
            <a:ext cx="7924680" cy="46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Camera Screen shot Icon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first button selects only what you assign it to select. It is automatically captured and placed on a new pag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second button selects a FULL screen.  Not just the page but a complete full screen. It automatically was captured and place in a new pag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third button selects only the page you are working on.  It captures it and automatically places it in a new pag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19999" t="10000" r="68752" b="78006"/>
          <a:stretch/>
        </p:blipFill>
        <p:spPr>
          <a:xfrm>
            <a:off x="6934320" y="152280"/>
            <a:ext cx="20574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Teaching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Why are there three capture tools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Why would you need these?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Teaching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eraser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ree options of levels of thicknes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ble to erase on penning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nable to erase on pages with a screen shot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 subject area teacher can really benefit from this time saving tool, as he/she might teach multiple classes the same lesson.  Would only need to write your focus of the day once 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hristine Mazza</cp:lastModifiedBy>
  <dcterms:modified xsi:type="dcterms:W3CDTF">2008-09-19T16:31:15Z</dcterms:modified>
  <cp:revision>13</cp:revision>
  <dc:subject/>
  <dc:title>Interactive Tools to Enhance Instruction </dc:title>
</cp:coreProperties>
</file>